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93A-9E62-470D-8B91-CF3DABAD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B5D-B3EC-4B3E-9F99-0F26EDD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AF6-E4AD-4B14-B145-A239509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497-C395-4962-AC61-4BDE257F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797-9156-4556-92EF-57C04B4C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622-8892-4F94-8422-340AEFD3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CE0-817E-4397-96B7-4EAB6DF4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CA5-DA08-4145-B937-260852EF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ED0-07C7-4F89-8E87-CDDC5269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3E6-EE18-48F4-B1CD-F73F3A6E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98F-4C55-4B73-AC57-67FA48F3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7CF-6118-4A8E-80A3-D7F15C1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39A4-D2B8-4BD3-B13E-7569372CE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04920" y="1981080"/>
            <a:ext cx="4876560" cy="4267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1:  Matter and Its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2:  Motion and Stability:  Forces 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3: 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4:  Waves and Their Applications in Technologies for Information Transf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1:  From Molecules to Organisms:  Structures and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2:  Ecosystems:  Interactions, Energy, and 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3:  Heredity:  Inheritance and Variation of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4:  Biological Evolution:  Unity and D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AND SPAC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1:  Earth’s Place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2:  Earth’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3:  Earth and Human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ING, TECHNOLOGY, AND APPLICATIONS OF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1:  Engineering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2:  Links Among Engineering, Technology, Science, and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90840" y="456840"/>
            <a:ext cx="5407200" cy="1981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cience and Engineering Pract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sking Questions (for science) and Defining Problem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Developing and Using Mode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Planning and Carrying Out Investig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Analyzing and Interpreting 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Using Mathematics and Computational Thin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Constructing Explanations (for science) and Designing Solution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 Engaging in Argument from Evid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 Obtaining, Evaluating, and Communicat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423720"/>
            <a:ext cx="2286000" cy="11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itle 1"/>
          <p:cNvSpPr/>
          <p:nvPr/>
        </p:nvSpPr>
        <p:spPr>
          <a:xfrm>
            <a:off x="4724280" y="4191120"/>
            <a:ext cx="3657600" cy="1828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Cause and Effect:  Mechanisms and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cale, Proportion,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ystems and System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ergy and Matter:  Flows, Cycles,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Structure an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tability and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334120" y="3119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ww.nextgenscien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8:56:41Z</dcterms:created>
  <dc:creator>Willcuts, Peggy M (Meredith)</dc:creator>
  <dc:description/>
  <dc:language>en-US</dc:language>
  <cp:lastModifiedBy>Willcuts, Peggy M (Meredith)</cp:lastModifiedBy>
  <dcterms:modified xsi:type="dcterms:W3CDTF">2014-07-07T18:36:08Z</dcterms:modified>
  <cp:revision>13</cp:revision>
  <dc:subject/>
  <dc:title>Scientific and Engineering Practices</dc:title>
</cp:coreProperties>
</file>