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2BD-2B9B-4F20-8C10-02718423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07D-A536-4C01-AEC4-107D68B0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46A-5C89-4C8B-9B00-44D1F746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32F-030F-4D76-904F-FDAFD02E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DB0-1407-4784-AE3D-6B03CC99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CA8-3577-49BA-B0D2-FA39D715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2DC-9EAE-4CB4-AE46-FA744797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875-CA03-439C-B805-7DE8ECB4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1B65-A240-4C91-A1A7-B4E5CA24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D315-B44C-405B-8A8D-7BC19D7D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271-3EDD-4FE7-822D-0A7AD851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C3E-A8FA-4D22-B9BB-8BFF529E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0E7B-8965-4C7F-BE78-773B94BB9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304920" y="1981080"/>
            <a:ext cx="4876560" cy="4267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Disciplinary Core Ide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1:  Matter and Its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2:  Motion and Stability:  Forces and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3: 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4:  Waves and Their Applications in Technologies for Information Transf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1:  From Molecules to Organisms:  Structures and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2:  Ecosystems:  Interactions, Energy, and 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3:  Heredity:  Inheritance and Variation of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4:  Biological Evolution:  Unity and D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AND SPACE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1:  Earth’s Place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2:  Earth’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3:  Earth and Human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ING, TECHNOLOGY, AND APPLICATIONS OF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S1:  Engineering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S2:  Links Among Engineering, Technology, Science, and 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90840" y="456840"/>
            <a:ext cx="5407200" cy="1981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cience and Engineering Pract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sking Questions (for science) and Defining Problems (for enginee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Developing and Using Mode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Planning and Carrying Out Investig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Analyzing and Interpreting 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Using Mathematics and Computational Thin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Constructing Explanations (for science) and Designing Solutions (for enginee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 Engaging in Argument from Eviden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 Obtaining, Evaluating, and Communicating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33520" y="423720"/>
            <a:ext cx="2286000" cy="11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Title 1"/>
          <p:cNvSpPr/>
          <p:nvPr/>
        </p:nvSpPr>
        <p:spPr>
          <a:xfrm>
            <a:off x="4724280" y="4191120"/>
            <a:ext cx="3657600" cy="18288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rosscutting Concep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Cause and Effect:  Mechanisms and Expla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cale, Proportion, and Quant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Systems and System Mod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Energy and Matter:  Flows, Cycles, and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Structure and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tability and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5334120" y="31194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ww.nextgenscience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3T18:56:41Z</dcterms:created>
  <dc:creator>Willcuts, Peggy M (Meredith)</dc:creator>
  <dc:description/>
  <dc:language>en-US</dc:language>
  <cp:lastModifiedBy>Willcuts, Peggy M (Meredith)</cp:lastModifiedBy>
  <dcterms:modified xsi:type="dcterms:W3CDTF">2014-07-07T18:36:08Z</dcterms:modified>
  <cp:revision>13</cp:revision>
  <dc:subject/>
  <dc:title>Scientific and Engineering Practices</dc:title>
</cp:coreProperties>
</file>