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4B2-95D7-41E6-887B-3467F83E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DC3-E778-416B-A4D8-4789AD5B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A3F-EF9C-401A-82C6-3C46B60F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031-B6E8-4E88-9DB6-D806E0B9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ECF-66C4-493E-843D-363E2747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45D-34F7-43B2-B325-3C80BE64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E7F-41ED-4809-A4DE-1C4B4747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79C-3A41-4B21-8311-7FF8E3A4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C64-461B-482D-9C02-49D8AD85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EC1-A471-4894-ADF3-A46F6C6F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33C-C252-4486-B180-8A16944B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E7C-3EA4-4E50-8CA3-F8557BB4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F7D0-1154-4B24-A799-BA6803EFE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04920" y="1981080"/>
            <a:ext cx="4876560" cy="4267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Disciplinary Core Ide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1:  Matter and Its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2:  Motion and Stability:  Forces and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3: 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4:  Waves and Their Applications in Technologies for Information Transf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1:  From Molecules to Organisms:  Structures and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2:  Ecosystems:  Interactions, Energy, and 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3:  Heredity:  Inheritance and Variation of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4:  Biological Evolution:  Unity and D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AND SPAC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1:  Earth’s Place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2:  Earth’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3:  Earth and Human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ING, TECHNOLOGY, AND APPLICATIONS OF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1:  Engineering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2:  Links Among Engineering, Technology, Science, and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90840" y="456840"/>
            <a:ext cx="5407200" cy="1981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cience and Engineering Pract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sking Questions (for science) and Defining Problem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Developing and Using Mode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Planning and Carrying Out Investig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Analyzing and Interpreting 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Using Mathematics and Computational Thin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Constructing Explanations (for science) and Designing Solution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 Engaging in Argument from Eviden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 Obtaining, Evaluating, and Communicating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33520" y="423720"/>
            <a:ext cx="2286000" cy="11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itle 1"/>
          <p:cNvSpPr/>
          <p:nvPr/>
        </p:nvSpPr>
        <p:spPr>
          <a:xfrm>
            <a:off x="4724280" y="4191120"/>
            <a:ext cx="3657600" cy="1828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rosscutting Concep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Cause and Effect:  Mechanisms and Expla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cale, Proportion, and Quant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Systems and System Mod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Energy and Matter:  Flows, Cycles,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Structure an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tability and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5334120" y="3119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ww.nextgenscience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8:56:41Z</dcterms:created>
  <dc:creator>Willcuts, Peggy M (Meredith)</dc:creator>
  <dc:description/>
  <dc:language>en-US</dc:language>
  <cp:lastModifiedBy>Willcuts, Peggy M (Meredith)</cp:lastModifiedBy>
  <dcterms:modified xsi:type="dcterms:W3CDTF">2014-07-07T18:36:08Z</dcterms:modified>
  <cp:revision>13</cp:revision>
  <dc:subject/>
  <dc:title>Scientific and Engineering Practices</dc:title>
</cp:coreProperties>
</file>