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881-7970-4BA8-A448-61A9DE00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5A6-1771-42BF-847A-A5DCA350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06F-81CC-4FCF-9239-8F350323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55D-0C08-4812-BE3C-A34E7A76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4FE-9D72-47B1-8349-03253F92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FCC-9DEB-4556-B033-D33C3879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A03-4AA2-474E-8DF9-A9BAAD01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F4C-8709-4D88-9A7F-C3EF0520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801-08BF-4E13-AA10-3E10E81A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8E0-DD58-4E98-96F0-C568B506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607-FE51-47BD-AA6A-C66C1FCE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358-0CA3-4E5A-9099-43F16711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E970-341B-46D4-8D12-7CE417208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04920" y="1981080"/>
            <a:ext cx="4876560" cy="4267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Disciplinary Core Ide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1:  Matter and Its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2:  Motion and Stability:  Forces and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3: 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4:  Waves and Their Applications in Technologies for Information Transf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1:  From Molecules to Organisms:  Structures and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2:  Ecosystems:  Interactions, Energy, and 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3:  Heredity:  Inheritance and Variation of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4:  Biological Evolution:  Unity and D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AND SPAC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1:  Earth’s Place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2:  Earth’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3:  Earth and Human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ING, TECHNOLOGY, AND APPLICATIONS OF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1:  Engineering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2:  Links Among Engineering, Technology, Science, and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90840" y="456840"/>
            <a:ext cx="5407200" cy="1981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cience and Engineering Pract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sking Questions (for science) and Defining Problem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Developing and Using Mode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Planning and Carrying Out Investig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Analyzing and Interpreting 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Using Mathematics and Computational Thin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Constructing Explanations (for science) and Designing Solution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 Engaging in Argument from Evid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 Obtaining, Evaluating, and Communicating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33520" y="423720"/>
            <a:ext cx="2286000" cy="11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itle 1"/>
          <p:cNvSpPr/>
          <p:nvPr/>
        </p:nvSpPr>
        <p:spPr>
          <a:xfrm>
            <a:off x="4724280" y="4191120"/>
            <a:ext cx="3657600" cy="1828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rosscutting Concep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Cause and Effect:  Mechanisms and Expla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cale, Proportion,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Systems and System Mod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Energy and Matter:  Flows, Cycles,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Structure an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tability and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334120" y="3119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ww.nextgenscienc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8:56:41Z</dcterms:created>
  <dc:creator>Willcuts, Peggy M (Meredith)</dc:creator>
  <dc:description/>
  <dc:language>en-US</dc:language>
  <cp:lastModifiedBy>Willcuts, Peggy M (Meredith)</cp:lastModifiedBy>
  <dcterms:modified xsi:type="dcterms:W3CDTF">2014-07-07T18:36:08Z</dcterms:modified>
  <cp:revision>13</cp:revision>
  <dc:subject/>
  <dc:title>Scientific and Engineering Practices</dc:title>
</cp:coreProperties>
</file>