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0BAB-9B4C-4008-84BE-1AE63946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B056-B658-4FC8-8F4A-1B162766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96C6-E2F7-4967-8EA0-2B05C68E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E6AB-5FC0-4EE5-B275-9068623DA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30D0-ED7E-4C25-9E21-CA842654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D701-08DC-4491-9684-805E94F8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BAD9-5125-414A-8845-A86C2AEB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1D06-5268-40C2-A816-2C0C7281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72D8-4B84-4505-B936-5BF207C2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F0F9-0DB1-4005-8B4B-33B00335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109F-2401-4A11-B979-A905F482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D4D4-277F-4F53-BDBD-A6C7BDF0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97BF-46A9-439A-BDA9-6893B39AD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304920" y="1981080"/>
            <a:ext cx="4876560" cy="4267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Disciplinary Core Ide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AL SC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S1:  Matter and Its Inte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S2:  Motion and Stability:  Forces and Inte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S3: 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S4:  Waves and Their Applications in Technologies for Information Transf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SC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S1:  From Molecules to Organisms:  Structures and Proce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S2:  Ecosystems:  Interactions, Energy, and Dynam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S3:  Heredity:  Inheritance and Variation of Tra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S4:  Biological Evolution:  Unity and Diver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AND SPACE SC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1:  Earth’s Place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2:  Earth’s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3:  Earth and Human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INEERING, TECHNOLOGY, AND APPLICATIONS OF SCI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TS1:  Engineering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TS2:  Links Among Engineering, Technology, Science, and Socie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90840" y="456840"/>
            <a:ext cx="5407200" cy="19810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Science and Engineering Practi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Asking Questions (for science) and Defining Problems (for engineering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Developing and Using Mode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 Planning and Carrying Out Investig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 Analyzing and Interpreting Da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 Using Mathematics and Computational Think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 Constructing Explanations (for science) and Designing Solutions (for engineering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 Engaging in Argument from Eviden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 Obtaining, Evaluating, and Communicating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33520" y="423720"/>
            <a:ext cx="2286000" cy="110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4" name="Title 1"/>
          <p:cNvSpPr/>
          <p:nvPr/>
        </p:nvSpPr>
        <p:spPr>
          <a:xfrm>
            <a:off x="4724280" y="4191120"/>
            <a:ext cx="3657600" cy="18288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Crosscutting Concep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Cause and Effect:  Mechanisms and Expla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Scale, Proportion, and Quant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Systems and System Mod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Energy and Matter:  Flows, Cycles, and Con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Structure and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tability and Ch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5334120" y="31194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ww.nextgenscience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3T18:56:41Z</dcterms:created>
  <dc:creator>Willcuts, Peggy M (Meredith)</dc:creator>
  <dc:description/>
  <dc:language>en-US</dc:language>
  <cp:lastModifiedBy>Willcuts, Peggy M (Meredith)</cp:lastModifiedBy>
  <dcterms:modified xsi:type="dcterms:W3CDTF">2014-07-07T18:36:08Z</dcterms:modified>
  <cp:revision>13</cp:revision>
  <dc:subject/>
  <dc:title>Scientific and Engineering Practices</dc:title>
</cp:coreProperties>
</file>