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C88-2FA0-4665-A866-E13CF381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D22-A4E9-425F-A61C-CEAD0670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ECC-597D-4418-A523-4709EDD5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5F1-E32A-4AA8-81D2-589750B2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C0E-7325-449E-AD97-AC8F1461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2D8-A404-4F51-B75E-A6D78B0D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F97-68E7-4BBE-B617-1671C1BE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E3E-9168-4C44-80A5-A7A0328E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8F3-7D71-4C9E-AEC1-0AD57808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8A6-7862-454B-AE84-FD0A964D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D91-0817-4B3F-9347-D215BDE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955-1CCF-4990-A90E-6421A17F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0345-8C5B-4292-95B9-9947B8612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04920" y="1981080"/>
            <a:ext cx="4876560" cy="4267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Disciplinary Core Ide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1:  Matter and Its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2:  Motion and Stability:  Forces and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3: 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4:  Waves and Their Applications in Technologies for Information Transf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1:  From Molecules to Organisms:  Structures and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2:  Ecosystems:  Interactions, Energy, and 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3:  Heredity:  Inheritance and Variation of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4:  Biological Evolution:  Unity and D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AND SPAC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1:  Earth’s Place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2:  Earth’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3:  Earth and Human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ING, TECHNOLOGY, AND APPLICATIONS OF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1:  Engineering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2:  Links Among Engineering, Technology, Science, and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90840" y="456840"/>
            <a:ext cx="5407200" cy="1981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cience and Engineering Pract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sking Questions (for science) and Defining Problem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Developing and Using Mode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Planning and Carrying Out Investig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Analyzing and Interpreting 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Using Mathematics and Computational Thin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Constructing Explanations (for science) and Designing Solution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 Engaging in Argument from Evid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 Obtaining, Evaluating, and Communicating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33520" y="423720"/>
            <a:ext cx="2286000" cy="11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itle 1"/>
          <p:cNvSpPr/>
          <p:nvPr/>
        </p:nvSpPr>
        <p:spPr>
          <a:xfrm>
            <a:off x="4724280" y="4191120"/>
            <a:ext cx="3657600" cy="1828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rosscutting Concep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Cause and Effect:  Mechanisms and Expla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cale, Proportion,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Systems and System Mod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Energy and Matter:  Flows, Cycles,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Structure an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tability and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334120" y="3119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ww.nextgenscienc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8:56:41Z</dcterms:created>
  <dc:creator>Willcuts, Peggy M (Meredith)</dc:creator>
  <dc:description/>
  <dc:language>en-US</dc:language>
  <cp:lastModifiedBy>Willcuts, Peggy M (Meredith)</cp:lastModifiedBy>
  <dcterms:modified xsi:type="dcterms:W3CDTF">2014-07-07T18:36:08Z</dcterms:modified>
  <cp:revision>13</cp:revision>
  <dc:subject/>
  <dc:title>Scientific and Engineering Practices</dc:title>
</cp:coreProperties>
</file>